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44507"/>
        <c:axId val="25443481"/>
      </c:barChart>
      <c:catAx>
        <c:axId val="28844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443481"/>
        <c:crosses val="autoZero"/>
        <c:auto val="1"/>
        <c:lblAlgn val="ctr"/>
        <c:lblOffset val="100"/>
        <c:noMultiLvlLbl val="0"/>
      </c:catAx>
      <c:valAx>
        <c:axId val="254434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44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99E2-E9E6-4E97-98B5-11201DDD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6A6B-D0EE-45A9-87E7-1143A16D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9268-8016-4CFC-92C9-70CD3A69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554A-D490-472B-8F06-AD09DA1B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242-00E7-4EFA-9B39-93E2C06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2275-68A8-4267-B927-52AD16D6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540D-4287-4307-9B61-250CB8C4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CB46-DB12-4DB2-884B-5916DC37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C05-F028-48F5-AED2-DFA1FC46B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C8F-E422-4F08-9A5F-4937809C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BCD9-F9BA-43DD-8ACF-FCAD3E16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C8A1-5581-4290-A6C6-D0D2E648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EB4EB-9319-429C-8193-8E193BC247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