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01851"/>
        <c:axId val="97013700"/>
      </c:barChart>
      <c:catAx>
        <c:axId val="37701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13700"/>
        <c:crosses val="autoZero"/>
        <c:auto val="1"/>
        <c:lblAlgn val="ctr"/>
        <c:lblOffset val="100"/>
        <c:noMultiLvlLbl val="0"/>
      </c:catAx>
      <c:valAx>
        <c:axId val="97013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01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8BA-1F48-4CB8-8438-30C70C97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AE5-0A09-4534-A52A-59A91D76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1FD-D9E6-4F86-9675-C3C50889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D30-4EA2-499E-B681-0EAF0DD6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0C0-8D11-4BDB-9975-4533376E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A7C-E671-4EAF-AF83-2AE25EAB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302-324E-4E45-9B8A-72006382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190-B128-47DB-A4F6-5CE0FA05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E48-EE2A-4685-B525-FA18E48A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BA1-444F-4665-B562-3D2553D0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32D-4E90-48BE-B74B-3D80DE39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AB5-4CBD-4D83-BA6C-D26B3AF0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7FC21-A2D4-480C-86D1-D817C15B56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