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71595"/>
        <c:axId val="44323149"/>
      </c:barChart>
      <c:catAx>
        <c:axId val="49171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23149"/>
        <c:crosses val="autoZero"/>
        <c:auto val="1"/>
        <c:lblAlgn val="ctr"/>
        <c:lblOffset val="100"/>
        <c:noMultiLvlLbl val="0"/>
      </c:catAx>
      <c:valAx>
        <c:axId val="44323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71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B2B-8164-442B-AA24-80724551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B43-F291-4817-B587-AD6198A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045-7ECA-4D67-B537-3E6A9C6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B24-3D64-47C7-BF2D-0194708B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C77-BA1F-41C0-858F-028A64B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325-78A7-4B15-BB2A-1BFBC0DA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662-ECB2-49EB-8F0A-80B620DB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B84-0DD2-4839-A9D8-50E69001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CC9-5416-4DC3-B52C-09C40A8D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039-21C6-4E37-982E-3E94B73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153-B69C-4911-8D94-98C2CF3F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575-94AF-4204-9FDF-E833CAB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1E211-F80B-44FE-BD48-6BE1063C55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