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123623"/>
        <c:axId val="2165643"/>
      </c:barChart>
      <c:catAx>
        <c:axId val="251236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65643"/>
        <c:crosses val="autoZero"/>
        <c:auto val="1"/>
        <c:lblAlgn val="ctr"/>
        <c:lblOffset val="100"/>
        <c:noMultiLvlLbl val="0"/>
      </c:catAx>
      <c:valAx>
        <c:axId val="21656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1236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9AD2-5311-4692-97D9-15E5EF81D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0CFC-A439-4465-ACD2-2D834A4F5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90D5-A42A-4447-BDFE-1FE297F89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FCEF-75CC-4FD1-AE4B-40F69488B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FD55-5921-4077-A5DF-B7C935330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D42D-1705-48C1-AD99-19EC6D491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EF41-049A-4238-A190-AEC608EBB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C5D3-8B21-43FC-A6F9-8AB282464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487A-B044-46BD-89D5-0426A560F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F34A-45DB-43F5-8DFA-501491695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FBE6-4C00-4E8E-A2DE-EC74FDE4B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FD42-1CAE-40EC-B131-6F49B2070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C81372-A68D-48CC-85ED-E506B37FF83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