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15933"/>
        <c:axId val="34469526"/>
      </c:barChart>
      <c:catAx>
        <c:axId val="65715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69526"/>
        <c:crosses val="autoZero"/>
        <c:auto val="1"/>
        <c:lblAlgn val="ctr"/>
        <c:lblOffset val="100"/>
        <c:noMultiLvlLbl val="0"/>
      </c:catAx>
      <c:valAx>
        <c:axId val="34469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15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6FF-0D22-489C-BB79-456887EB1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3B5-5241-4B24-B921-E29F75A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A243-1CC8-4913-94DF-08F81C20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8378-A210-4B8C-8ED0-6EE231D2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C9E-04E1-4B05-A592-040F7895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0BEE-4D64-49D7-A4B8-C0F00488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A9B9-8431-4F99-93B3-CD9BC196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68E-D79C-483E-A5B9-08BD00E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85B-5D62-48A7-85F3-0B139EB8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64A-3350-408A-BEFB-459021F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C405-F467-40F3-8F57-4ACAC1DB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9FED-535C-4AD7-B7FD-20FE337C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5279B-AEBD-4D5D-B706-BFE6FA7F4B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