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6891789"/>
        <c:axId val="40645686"/>
      </c:barChart>
      <c:catAx>
        <c:axId val="6689178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0645686"/>
        <c:crosses val="autoZero"/>
        <c:auto val="1"/>
        <c:lblAlgn val="ctr"/>
        <c:lblOffset val="100"/>
        <c:noMultiLvlLbl val="0"/>
      </c:catAx>
      <c:valAx>
        <c:axId val="4064568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89178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57DF1-AA4D-4B33-BA09-5BC6942A6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05217-BA28-4177-88D3-3827F3E30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353DD-433F-4F6D-9940-1F12876ED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23681-4EDD-4230-9714-892A72F5A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5F6ED-B080-42C4-BDF6-BBE2BEFD4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0C16E-65BA-4EB9-BCE8-09E798C49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1038E-8DEF-437E-BDBE-C7F220E2B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E7D28-8560-44B7-9AB3-69F658AA5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C6238-9FA8-4683-B2A6-622D195CA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21782-4AD1-4AE5-9D63-F47AB3424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D6602-8F37-4858-B4E7-7C10AAB77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12DCB-73C3-4CD8-9E5F-D4BB6FBE6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D70A9B-8FC2-4008-8542-1C55D609110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