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96809"/>
        <c:axId val="83003063"/>
      </c:barChart>
      <c:catAx>
        <c:axId val="42696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03063"/>
        <c:crosses val="autoZero"/>
        <c:auto val="1"/>
        <c:lblAlgn val="ctr"/>
        <c:lblOffset val="100"/>
        <c:noMultiLvlLbl val="0"/>
      </c:catAx>
      <c:valAx>
        <c:axId val="83003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96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D07-E83F-4259-A405-C10B7E77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126-6013-4C5B-946F-2F895B3C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806-71AB-483D-8A5F-CC35E6F8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49B-BCFC-4820-9FFF-C938F8B5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1C4-2DAC-42E3-85A0-2883E94B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B21-7693-44F1-98E2-D0446FCF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0E1-B396-4F3D-A08A-72B1BF29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29C-7306-4A50-BDB8-CC08CE2C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1DE-FE41-4493-9E40-51CD1BD1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057-4963-4538-82A8-01877C69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99B-1056-4758-9D12-E0610B11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7DE-EF52-464A-ACCA-C50E0A1B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B4E86-487D-40B4-AAF3-DB4DDCB7B2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