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15588"/>
        <c:axId val="26859731"/>
      </c:barChart>
      <c:catAx>
        <c:axId val="75415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59731"/>
        <c:crosses val="autoZero"/>
        <c:auto val="1"/>
        <c:lblAlgn val="ctr"/>
        <c:lblOffset val="100"/>
        <c:noMultiLvlLbl val="0"/>
      </c:catAx>
      <c:valAx>
        <c:axId val="26859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15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F7F-C100-4363-9CC2-0B579443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AE6-F968-44D6-840E-AD6D43AC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A09-4FC0-4FE4-B3D1-5C17EFD3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5AF-E0DB-4D6A-8286-A4681C41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382-2140-4B44-8016-69ADB2FF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BE9-DD40-489B-8A1C-199234BE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054-D76D-490E-A2CF-4DF3B4E1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089-9B26-4503-B26C-414F8C1D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9EF-B296-487F-B656-B08BFE15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460-3145-46FD-9AB3-64EED41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8D0-C3D9-44BE-8170-7A7D6E5E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064-1265-4606-9B02-EBE818C3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985DF-DE37-4FBE-A672-9B785E983E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