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40355"/>
        <c:axId val="12336274"/>
      </c:barChart>
      <c:catAx>
        <c:axId val="42540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36274"/>
        <c:crosses val="autoZero"/>
        <c:auto val="1"/>
        <c:lblAlgn val="ctr"/>
        <c:lblOffset val="100"/>
        <c:noMultiLvlLbl val="0"/>
      </c:catAx>
      <c:valAx>
        <c:axId val="12336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40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13D-5C51-41D6-991A-B0EDAF1E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505-774F-446D-ACB6-A929653F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656-7B5F-4F25-A9E5-B78D6927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82A-2188-421E-B4B2-24276A00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1F5-A788-4FC5-B383-7F255A43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5AB-2697-411D-AB3D-B4EECCD0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900-7983-402A-B026-53797F5E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BF7-C78D-4225-98C5-56319A4F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C02-56C6-460B-8555-EB772267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360-6B73-4F6D-A267-97EF7DCD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AC7-3356-4438-8BDD-D2FFEE7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4FB-BBF9-4295-B8B6-15F69BF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F554D-57E4-4C64-ACFA-1905DEB38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