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90965"/>
        <c:axId val="52997099"/>
      </c:barChart>
      <c:catAx>
        <c:axId val="898909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97099"/>
        <c:crosses val="autoZero"/>
        <c:auto val="1"/>
        <c:lblAlgn val="ctr"/>
        <c:lblOffset val="100"/>
        <c:noMultiLvlLbl val="0"/>
      </c:catAx>
      <c:valAx>
        <c:axId val="529970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909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D34-DD9A-48F0-A7ED-847D6B40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807-9C9C-4024-A634-06E74F27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37C-CDEE-4614-A830-43785CED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61D-C872-464C-BEEA-6BC147BF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798-FA69-4CC3-BE33-FAA8FF55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2DC-7F84-4798-BAB0-25B57475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64F7-8022-44C6-B2D9-2EA19D25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F2F3-8B4E-4D63-A65D-526699BF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C1B-D0A8-4CDD-ADA1-CDD5238A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D5D-A721-4DE6-917E-69688DCF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1FB6-E821-4576-84A5-5B5C93D3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DBA-8F56-4DD6-BB55-8DABA3EF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45F40-B426-4BDB-95F3-B3215FA4DD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