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8810230"/>
        <c:axId val="79001757"/>
      </c:barChart>
      <c:catAx>
        <c:axId val="8881023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9001757"/>
        <c:crosses val="autoZero"/>
        <c:auto val="1"/>
        <c:lblAlgn val="ctr"/>
        <c:lblOffset val="100"/>
        <c:noMultiLvlLbl val="0"/>
      </c:catAx>
      <c:valAx>
        <c:axId val="790017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881023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0F97-D32D-4489-8C26-07AB7E2B9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0769-328C-42CB-ADE1-81799BA74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10C-A6CD-4F9D-9771-70624774A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FA59-A156-4D97-B099-8ADA539CC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ABEBF-D2F2-4CF9-8FD8-90395BFD8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52EFF-4F73-4899-89C8-4B7ACD9DD1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EE00-C8C0-4A56-B7BC-26EDBEAC1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C44C-9D53-49A7-873A-880C3C9C8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CDEA9-6FC0-4870-8153-A5D16BCFB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7106C-86F4-49A8-92C0-0D915A24B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49A2-E47D-46AE-94B4-B75998E17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B7B-16FF-47EB-B673-890A170A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DE9737-5DAD-4E21-854A-385F23A02C2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