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09870"/>
        <c:axId val="43045273"/>
      </c:barChart>
      <c:catAx>
        <c:axId val="11309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45273"/>
        <c:crosses val="autoZero"/>
        <c:auto val="1"/>
        <c:lblAlgn val="ctr"/>
        <c:lblOffset val="100"/>
        <c:noMultiLvlLbl val="0"/>
      </c:catAx>
      <c:valAx>
        <c:axId val="43045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09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8BB-A406-4CBF-BA9A-C48FB3A8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292-38AC-4E95-A456-73F8788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1F3-ED45-4E59-B71B-9909C3B1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EE9-01BB-41B9-90C1-C3954D52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BB4-BCF3-44EE-AEBD-1F0B2234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DB1-C9A6-4AC3-BC5B-2522B24F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A35-F622-40AE-8E7E-B4360440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676-1FCA-4D0B-9C07-8863163C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FF9-5B25-4E06-9AFB-CF796FC6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187-3F78-4862-8F61-E88433C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8FA-506A-40F7-856B-741BC2A7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671-4932-4CEB-8DFD-38ADED45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83D88-4E26-4828-B095-81E4FDBD7C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