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62853"/>
        <c:axId val="52772876"/>
      </c:barChart>
      <c:catAx>
        <c:axId val="14662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72876"/>
        <c:crosses val="autoZero"/>
        <c:auto val="1"/>
        <c:lblAlgn val="ctr"/>
        <c:lblOffset val="100"/>
        <c:noMultiLvlLbl val="0"/>
      </c:catAx>
      <c:valAx>
        <c:axId val="52772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62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F85-E8E9-4087-9CE0-877B8663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049-7ACF-4AF5-9024-9BCC619B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4B01-5613-4E44-8B14-856683B4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530-2355-4DFD-A88D-824110FE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D20-6EB0-4D60-91CE-9E516E6C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2AB-5883-4CB8-B0DD-B2BB0866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E84-2A83-43E5-8D11-3FC2B3EC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2C5A-2DA4-4366-85F0-1E6BA4E7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9C7-5C4B-4E6A-9DDF-5864C8AA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67EB-E2AE-4B20-B40F-10AFC3E0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D6C-1B87-433B-ABEE-E9A01094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DA2-4734-4140-80AA-2999F22D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837A9-D41C-4E6E-BE7C-854675B687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