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4947181"/>
        <c:axId val="6532900"/>
      </c:barChart>
      <c:catAx>
        <c:axId val="9494718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32900"/>
        <c:crosses val="autoZero"/>
        <c:auto val="1"/>
        <c:lblAlgn val="ctr"/>
        <c:lblOffset val="100"/>
        <c:noMultiLvlLbl val="0"/>
      </c:catAx>
      <c:valAx>
        <c:axId val="653290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94718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596C-1C71-4D22-B47B-02C6B2CA9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3409-DAB5-4CE7-BA39-C623B3238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9963-BB03-4090-9436-5CB22443A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310E-88AE-4631-BBF8-54828FD69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312A-188E-4A4C-9614-159AF7BDD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FEC5-9CA9-4CA8-9F21-0CA47AF9C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3C94-C029-4BA0-A82B-17D1E0B6C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D53F-F666-47AF-A53E-872878BAF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4E3A-5E5C-4FC6-A17F-87C7606F2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96EF-6A62-414F-8A00-700FF90D2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5900-583C-42A3-B916-D918939ED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B97C-B166-4884-8438-28D0CF45A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C9BA9F-7B27-4E2C-903B-FB22E11E892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