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26530"/>
        <c:axId val="9471376"/>
      </c:barChart>
      <c:catAx>
        <c:axId val="98826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71376"/>
        <c:crosses val="autoZero"/>
        <c:auto val="1"/>
        <c:lblAlgn val="ctr"/>
        <c:lblOffset val="100"/>
        <c:noMultiLvlLbl val="0"/>
      </c:catAx>
      <c:valAx>
        <c:axId val="9471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26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176-8983-4ECB-8AA6-82F750D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339-FFF0-4B23-85F3-9EE68D8B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668-7EFE-4D5D-BE57-9C8BF2EAF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BF0-BB91-4E09-B826-6897E6E0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45C-DC69-4393-9033-7CF53DC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53A8-3D36-428E-B463-5DDF05FB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A3D-E8C1-4535-BABA-3FBFB234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12F8-7BA0-4F17-9A08-D6430E79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0D4-766E-46D6-82A7-9416F4C3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481C-1CE4-4883-8500-C6043EB0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137-E258-42A7-8A78-E6467924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24C-083B-499F-BC94-8DB07037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1554-1956-4DC5-B786-AE2ABD2C93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