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875468"/>
        <c:axId val="78647538"/>
      </c:barChart>
      <c:catAx>
        <c:axId val="60875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47538"/>
        <c:crosses val="autoZero"/>
        <c:auto val="1"/>
        <c:lblAlgn val="ctr"/>
        <c:lblOffset val="100"/>
        <c:noMultiLvlLbl val="0"/>
      </c:catAx>
      <c:valAx>
        <c:axId val="78647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75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6B8-0621-49AB-94EC-0B300F4B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AA21-D33C-4DCE-8C46-92771F13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A2D-5A85-42AD-BD63-851F0524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5F7B-94C2-4F48-A53A-F93EBFF2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70C-EC20-45AA-9B6B-E3A57B4D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814-75E0-4333-A8AF-19569019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581-4DCE-4827-AD21-AB290FB8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F8D-5A28-4C5F-9194-D9E828EE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443-EE6D-4FA2-B66C-CEDDE21A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4B75-ED1A-4EEE-8CC1-FF0D2030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0D9-DF74-4170-8551-A7D6D72C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101-0187-477E-8D89-F065F07E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32F4D-F077-4551-A469-69F449DC04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