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42206"/>
        <c:axId val="48421070"/>
      </c:barChart>
      <c:catAx>
        <c:axId val="89242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21070"/>
        <c:crosses val="autoZero"/>
        <c:auto val="1"/>
        <c:lblAlgn val="ctr"/>
        <c:lblOffset val="100"/>
        <c:noMultiLvlLbl val="0"/>
      </c:catAx>
      <c:valAx>
        <c:axId val="48421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2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3B2-677E-4FB4-A243-B6E0522B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C8C-BECF-408C-8BC9-483EE0AA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1DA-83BC-42C9-A896-FCB5B58E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044-A4BB-4063-9779-8BBFEAA7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541-7363-48D2-9C7D-1E91300D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1CC-8F47-4CBF-BF15-82D2F7D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CFA-DFE3-4499-B734-242849AB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25B-B2BD-4ADC-B744-B71A6D46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E7C-F1B3-41B0-80DC-7A5658E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2C7-1E21-4694-854D-708D3087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51A-CAEE-4243-8687-6BDDBF7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940-DEE1-47BA-A36E-495487D3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D89B-9471-437C-9656-D88749B6BD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