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61582"/>
        <c:axId val="39296596"/>
      </c:barChart>
      <c:catAx>
        <c:axId val="26961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96596"/>
        <c:crosses val="autoZero"/>
        <c:auto val="1"/>
        <c:lblAlgn val="ctr"/>
        <c:lblOffset val="100"/>
        <c:noMultiLvlLbl val="0"/>
      </c:catAx>
      <c:valAx>
        <c:axId val="39296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1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248-059C-435C-870C-53A74ED3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2A9-EBFA-4B9F-A004-8CE625AE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282-5711-4631-952F-63925346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82D-5AA3-40B5-ACFE-7FDEF6E5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02C-6B11-42BC-84DD-A83CBC4F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F1E-3D29-42C0-9740-4EBF8B7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B30-9BAE-4785-93BA-52951C20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E60-46F0-4884-A12F-34B5E153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719-D796-4425-A247-A908DCAE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C83-AECD-4BFD-B3F3-2510037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9DF-82C3-4C25-A026-71F7063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58D-1855-40FC-B627-F838FE1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6B665-8123-4E72-9BD0-AC1E14C07D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