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66605"/>
        <c:axId val="25665743"/>
      </c:barChart>
      <c:catAx>
        <c:axId val="12966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65743"/>
        <c:crosses val="autoZero"/>
        <c:auto val="1"/>
        <c:lblAlgn val="ctr"/>
        <c:lblOffset val="100"/>
        <c:noMultiLvlLbl val="0"/>
      </c:catAx>
      <c:valAx>
        <c:axId val="25665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6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654-0932-491C-9ED6-BC189B0B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862-6158-4E78-8C3D-948F89F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532-7016-4726-B82B-9CB993B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1E7-B9C0-4FAF-AC35-CED71B90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E59-9D64-4798-A023-980CBB6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F93-C08D-4E0F-89C0-A505CC42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B24-D881-4C60-AC0C-A3CFF45A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42B-5D9D-46C5-B5E4-11E040D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7A6-53BF-4C32-856D-13E8FD3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D06-E26D-42D1-AA7A-397D295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F6E-1C66-44E9-A23A-4220D12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311-5950-4B99-B484-5BDBD1F4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94040-9225-475C-8D37-038460D37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